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373B025-8237-4A2D-BEF1-55335134A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77DF1A-15B0-4AC4-A04B-35E2F7871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5D023A1-5920-4973-8F59-9430CCD438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BF3B3CE-7F2B-49C1-A8D0-AA2457355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E89152-C581-4599-B079-B6305AEDF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7977A1-5458-4E1A-82EF-38E8B8493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C2B233-AD35-4B61-B0D9-87AAEA939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50FD3F-F880-4776-AAA1-DDBD33AF1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37D1DB-01E1-4001-AB52-5DB6931D2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E03047-6963-4429-9308-845C11A47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61D1BF-4514-49DB-959C-809C9FF5A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EC2827-3E48-406B-9683-93DA8F798B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EEE0-6570-45C3-BD61-0BA2B91164B2}"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1C57-3416-4C0C-BD43-5ACB345823FB}" type="datetime">
              <a:rPr b="0" lang="en-US" sz="1200" spc="-1" strike="noStrike">
                <a:solidFill>
                  <a:srgbClr val="dfdcb7"/>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9160" y="-254160"/>
            <a:ext cx="8501040" cy="636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r>
              <a:rPr b="1" lang="fr-FR" sz="5400" spc="-1" strike="noStrike">
                <a:solidFill>
                  <a:srgbClr val="675e47"/>
                </a:solidFill>
                <a:latin typeface="Cambria"/>
              </a:rPr>
              <a:t>Droit de la famille </a:t>
            </a:r>
            <a:br>
              <a:rPr sz="6600"/>
            </a:br>
            <a:r>
              <a:rPr b="0" lang="fr-FR" sz="6600" spc="-1" strike="noStrike">
                <a:solidFill>
                  <a:srgbClr val="675e47"/>
                </a:solidFill>
                <a:latin typeface="Cambria"/>
              </a:rPr>
              <a:t>    </a:t>
            </a:r>
            <a:r>
              <a:rPr b="1" lang="fr-FR" sz="3200" spc="-1" strike="noStrike">
                <a:solidFill>
                  <a:srgbClr val="675e47"/>
                </a:solidFill>
                <a:latin typeface="Cambria"/>
              </a:rPr>
              <a:t>Pr.  Kamal LAGTATI</a:t>
            </a:r>
            <a:br>
              <a:rPr sz="3200"/>
            </a:br>
            <a:r>
              <a:rPr b="1" lang="fr-FR" sz="3200" spc="-1" strike="noStrike">
                <a:solidFill>
                  <a:srgbClr val="675e47"/>
                </a:solidFill>
                <a:latin typeface="Cambria"/>
              </a:rPr>
              <a:t>               Séance 6</a:t>
            </a:r>
            <a:br>
              <a:rPr sz="6600"/>
            </a:br>
            <a:endParaRPr b="0" lang="en-US" sz="3200" spc="-1" strike="noStrike">
              <a:solidFill>
                <a:srgbClr val="675e47"/>
              </a:solidFill>
              <a:latin typeface="Cambria"/>
            </a:endParaRPr>
          </a:p>
        </p:txBody>
      </p:sp>
      <p:pic>
        <p:nvPicPr>
          <p:cNvPr id="44" name="Image 3" descr=""/>
          <p:cNvPicPr/>
          <p:nvPr/>
        </p:nvPicPr>
        <p:blipFill>
          <a:blip r:embed="rId1"/>
          <a:stretch/>
        </p:blipFill>
        <p:spPr>
          <a:xfrm>
            <a:off x="0" y="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46" name="Image 3" descr=""/>
          <p:cNvPicPr/>
          <p:nvPr/>
        </p:nvPicPr>
        <p:blipFill>
          <a:blip r:embed="rId1"/>
          <a:stretch/>
        </p:blipFill>
        <p:spPr>
          <a:xfrm>
            <a:off x="0" y="0"/>
            <a:ext cx="8381880" cy="1455840"/>
          </a:xfrm>
          <a:prstGeom prst="rect">
            <a:avLst/>
          </a:prstGeom>
          <a:ln w="0">
            <a:noFill/>
          </a:ln>
        </p:spPr>
      </p:pic>
      <p:sp>
        <p:nvSpPr>
          <p:cNvPr id="47"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8" name="Rectangle 2"/>
          <p:cNvSpPr/>
          <p:nvPr/>
        </p:nvSpPr>
        <p:spPr>
          <a:xfrm>
            <a:off x="155520" y="1254240"/>
            <a:ext cx="8226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B- Etablissement de la filiation légitime par reconnaissanc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Une distinction doit être faite selon qu’il s’agit d’une reconnaissance de paternité ou une reconnaissance de parenté.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r>
              <a:rPr b="1" lang="fr-FR" sz="1800" spc="-1" strike="noStrike">
                <a:solidFill>
                  <a:srgbClr val="2f2b20"/>
                </a:solidFill>
                <a:latin typeface="Calibri"/>
              </a:rPr>
              <a:t>a- la reconnaissance de paternité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Elle consiste pour le père, même en dernière maladie, d’avouer sa paternité de l’enfant en recourant à la procédure de l’aveu (Iqrar).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Pour que l’aveu puisse produire des effets, il faut qu’il réunisse des conditions de fond et des conditions de form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s conditions de fond : l’auteur de l’aveu de paternité doit réunir les conditions énumérées à l’al. 1 de l’article 160 du code de la famille. Ces conditions sont au nombre de quatr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1- Le père qui fait l’aveu doit jouir de ses facultés mentale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2- la filiation paternelle de l’enfant reconnu ne doit être établie que s’il n’y a pas de filiation déjà connu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3- les déclarations de l’auteur de la reconnaissance de paternité ne doivent pas relever de l’illogique ou de l’invraisemblab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4- L’enfant reconnue doit donner son accord, s’il est majeur au moment de la reconnaissance de paternité. Si cette reconnaissance a eu lieu avant l'âge de  majorité, l’enfant reconnu a le droit, lorsqu’il atteint l’âge de majorité d’intenter une action en justice visant à désavouer la filiation paternel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0" name="Image 3" descr=""/>
          <p:cNvPicPr/>
          <p:nvPr/>
        </p:nvPicPr>
        <p:blipFill>
          <a:blip r:embed="rId1"/>
          <a:stretch/>
        </p:blipFill>
        <p:spPr>
          <a:xfrm>
            <a:off x="0" y="0"/>
            <a:ext cx="8381880" cy="1455840"/>
          </a:xfrm>
          <a:prstGeom prst="rect">
            <a:avLst/>
          </a:prstGeom>
          <a:ln w="0">
            <a:noFill/>
          </a:ln>
        </p:spPr>
      </p:pic>
      <p:sp>
        <p:nvSpPr>
          <p:cNvPr id="51" name="ZoneTexte 2"/>
          <p:cNvSpPr/>
          <p:nvPr/>
        </p:nvSpPr>
        <p:spPr>
          <a:xfrm>
            <a:off x="0" y="1455840"/>
            <a:ext cx="83818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reconnaissance de paternité n’est pas un acte incontestable. Toute personne ayant un intérêt peut formuler un recours contre la validité de l’aveu.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r>
              <a:rPr b="1" lang="fr-FR" sz="1800" spc="-1" strike="noStrike">
                <a:solidFill>
                  <a:srgbClr val="2f2b20"/>
                </a:solidFill>
                <a:latin typeface="Calibri"/>
              </a:rPr>
              <a:t>b- La reconnaissance de parenté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reconnaissance de parenté permet d’attribuer à une personne une parenté avec un tiers. C’est le cas d’une personne qui reconnaît un individu comme étant son petit fils ou son frèr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reconnaissance de parenté ne crée d’effets qu’à l’égard des tiers. Elle ne s’impose pas aux frères ou au fils de l’auteur de la reconnaissance. </a:t>
            </a: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ea typeface="Calibri"/>
              </a:rPr>
              <a:t> </a:t>
            </a: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ea typeface="Calibri"/>
              </a:rPr>
              <a:t> </a:t>
            </a:r>
            <a:r>
              <a:rPr b="1" lang="fr-FR" sz="1800" spc="-1" strike="noStrike">
                <a:solidFill>
                  <a:srgbClr val="2f2b20"/>
                </a:solidFill>
                <a:latin typeface="Calibri"/>
                <a:ea typeface="Calibri"/>
              </a:rPr>
              <a:t>Parag. 2 Les effets de la filiation </a:t>
            </a: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ea typeface="Calibri"/>
              </a:rPr>
              <a:t>Les effets rattachés à la filiation par le législateur sont à la fois patrimoniaux et extra patrimoniaux </a:t>
            </a: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ea typeface="Calibri"/>
              </a:rPr>
              <a:t>  </a:t>
            </a:r>
            <a:r>
              <a:rPr b="1" lang="fr-FR" sz="1800" spc="-1" strike="noStrike">
                <a:solidFill>
                  <a:srgbClr val="2f2b20"/>
                </a:solidFill>
                <a:latin typeface="Calibri"/>
                <a:ea typeface="Calibri"/>
              </a:rPr>
              <a:t>A- Les effets patrimoniaux </a:t>
            </a: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ea typeface="Calibri"/>
              </a:rPr>
              <a:t>Il s’agit principalement de l’obligation alimentaire. D’après les dispositions de l’article 187 du code de la famille : </a:t>
            </a: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ea typeface="Calibri"/>
              </a:rPr>
              <a:t>« L’obligation alimentaire a pour source le mariage, la parenté et l’engagemen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orsqu’elle a pour source la parenté, la pension alimentaire peut être soit descendante (c’est à dire due par les parents aux enfants) soit remontante (c’est à dire due par les parents à leurs enfant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13940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3" name="Image 3" descr=""/>
          <p:cNvPicPr/>
          <p:nvPr/>
        </p:nvPicPr>
        <p:blipFill>
          <a:blip r:embed="rId1"/>
          <a:stretch/>
        </p:blipFill>
        <p:spPr>
          <a:xfrm>
            <a:off x="0" y="0"/>
            <a:ext cx="8381880" cy="1455840"/>
          </a:xfrm>
          <a:prstGeom prst="rect">
            <a:avLst/>
          </a:prstGeom>
          <a:ln w="0">
            <a:noFill/>
          </a:ln>
        </p:spPr>
      </p:pic>
      <p:sp>
        <p:nvSpPr>
          <p:cNvPr id="54" name="ZoneTexte 2"/>
          <p:cNvSpPr/>
          <p:nvPr/>
        </p:nvSpPr>
        <p:spPr>
          <a:xfrm>
            <a:off x="0" y="1455840"/>
            <a:ext cx="8381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r>
              <a:rPr b="1" lang="fr-FR" sz="1800" spc="-1" strike="noStrike">
                <a:solidFill>
                  <a:srgbClr val="2f2b20"/>
                </a:solidFill>
                <a:latin typeface="Calibri"/>
              </a:rPr>
              <a:t>a- L’obligation alimentaire due par les parent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obligation alimentaire est due par le père. La mère n’y sera soumise que lorsque le père se trouve totalement ou partiellement incapable d’entretenir ses enfants. Encore faut-il que la mère soit aisée. Elle n’est obligée qu’au prorata de la pension que le père ne peut assurer.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Les conditions</a:t>
            </a:r>
            <a:r>
              <a:rPr b="0" lang="fr-FR" sz="1800" spc="-1" strike="noStrike">
                <a:solidFill>
                  <a:srgbClr val="2f2b20"/>
                </a:solidFill>
                <a:latin typeface="Calibri"/>
              </a:rPr>
              <a:t>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 Il faut que le père soit capable de subvenir à ses propres besoin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 Elle n’est due que lorsque l’enfant est mineure ou incapable de gagner sa vie et qu’il ne dispose pas de biens lui permettant de subvenir à ses besoin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La composition</a:t>
            </a:r>
            <a:r>
              <a:rPr b="0" lang="fr-FR" sz="1800" spc="-1" strike="noStrike">
                <a:solidFill>
                  <a:srgbClr val="2f2b20"/>
                </a:solidFill>
                <a:latin typeface="Calibri"/>
              </a:rPr>
              <a:t>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obligation alimentaire comprend : « l’alimentation, l’habillement, les soins médicaux, l’instruction des enfants et tout ce qui est habituellement considéré comme indispensabl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L’évaluation</a:t>
            </a:r>
            <a:r>
              <a:rPr b="0" lang="fr-FR" sz="1800" spc="-1" strike="noStrike">
                <a:solidFill>
                  <a:srgbClr val="2f2b20"/>
                </a:solidFill>
                <a:latin typeface="Calibri"/>
              </a:rPr>
              <a:t>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évaluation de l’obligation alimentaire est faite par référence à une moyenne des revenus de la personne astreinte à la pension alimentaire et de la situation de celle qui y a droit, du coût de la vie, et des us et coutumes dans le milieu social de la personne ayant droit à la pension alimentaire (art. 189 in fine du code de la famill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55"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56" name="Rectangle 3"/>
          <p:cNvSpPr/>
          <p:nvPr/>
        </p:nvSpPr>
        <p:spPr>
          <a:xfrm>
            <a:off x="138240" y="132084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8" name="Image 3" descr=""/>
          <p:cNvPicPr/>
          <p:nvPr/>
        </p:nvPicPr>
        <p:blipFill>
          <a:blip r:embed="rId1"/>
          <a:stretch/>
        </p:blipFill>
        <p:spPr>
          <a:xfrm>
            <a:off x="0" y="0"/>
            <a:ext cx="8381880" cy="1455840"/>
          </a:xfrm>
          <a:prstGeom prst="rect">
            <a:avLst/>
          </a:prstGeom>
          <a:ln w="0">
            <a:noFill/>
          </a:ln>
        </p:spPr>
      </p:pic>
      <p:sp>
        <p:nvSpPr>
          <p:cNvPr id="59"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0" name="Rectangle 3"/>
          <p:cNvSpPr/>
          <p:nvPr/>
        </p:nvSpPr>
        <p:spPr>
          <a:xfrm>
            <a:off x="0" y="-79200"/>
            <a:ext cx="85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p:txBody>
      </p:sp>
      <p:sp>
        <p:nvSpPr>
          <p:cNvPr id="61" name="ZoneTexte 2"/>
          <p:cNvSpPr/>
          <p:nvPr/>
        </p:nvSpPr>
        <p:spPr>
          <a:xfrm>
            <a:off x="0" y="1455840"/>
            <a:ext cx="8381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La durée </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a durée de la pension dépend de la situation financière et du genre de l’enfant débiteur. Le code de la famille distingue entre l’entretien dû à la fille, au fils et à l’enfant handicapé.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 </a:t>
            </a:r>
            <a:r>
              <a:rPr b="1" lang="fr-FR" sz="1800" spc="-1" strike="noStrike">
                <a:solidFill>
                  <a:srgbClr val="2f2b20"/>
                </a:solidFill>
                <a:latin typeface="Calibri"/>
              </a:rPr>
              <a:t>la fille </a:t>
            </a:r>
            <a:r>
              <a:rPr b="0" lang="fr-FR" sz="1800" spc="-1" strike="noStrike">
                <a:solidFill>
                  <a:srgbClr val="2f2b20"/>
                </a:solidFill>
                <a:latin typeface="Calibri"/>
              </a:rPr>
              <a:t>: l’obligation d’entretien reste indéfiniment due par le père tant que la fille ne dispose pas de ressources propres. Il en sera dispensé dans le cas où elle se marie, puisque son entretien incombera à son mari</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 </a:t>
            </a:r>
            <a:r>
              <a:rPr b="1" lang="fr-FR" sz="1800" spc="-1" strike="noStrike">
                <a:solidFill>
                  <a:srgbClr val="2f2b20"/>
                </a:solidFill>
                <a:latin typeface="Calibri"/>
              </a:rPr>
              <a:t>le fils </a:t>
            </a:r>
            <a:r>
              <a:rPr b="0" lang="fr-FR" sz="1800" spc="-1" strike="noStrike">
                <a:solidFill>
                  <a:srgbClr val="2f2b20"/>
                </a:solidFill>
                <a:latin typeface="Calibri"/>
              </a:rPr>
              <a:t>:  il est moins privilégié que la fille dans la mesure où le père ne doit pourvoir à son entretien que jusqu’à sa majorité ou jusqu’à 25 ans s’il poursuit encore ses étude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a:t>
            </a:r>
            <a:r>
              <a:rPr b="1" lang="fr-FR" sz="1800" spc="-1" strike="noStrike">
                <a:solidFill>
                  <a:srgbClr val="2f2b20"/>
                </a:solidFill>
                <a:latin typeface="Calibri"/>
              </a:rPr>
              <a:t> l’enfant handicapé </a:t>
            </a:r>
            <a:r>
              <a:rPr b="0" lang="fr-FR" sz="1800" spc="-1" strike="noStrike">
                <a:solidFill>
                  <a:srgbClr val="2f2b20"/>
                </a:solidFill>
                <a:latin typeface="Calibri"/>
              </a:rPr>
              <a:t>: le code de la famille prévoit que le père doit continuer à assurer l’entretien de ses enfants handicapés et incapables de se procurer des ressources.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4-18T19:59:08Z</dcterms:modified>
  <cp:revision>36</cp:revision>
  <dc:subject/>
  <dc:title>    Droit de la famille    Pr.  Kamal LAGTATI </dc:title>
</cp:coreProperties>
</file>